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749-E7D3-4E2B-A9DF-72E0700B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FE3-8E7A-4B01-A5D3-6F371F51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2F2-F4C2-44E3-8A1A-719AA0F5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5D15-5A04-4AD7-A7C7-685C18A5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C27D-5E8A-4CC1-A566-7C07E2CF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7699-77F0-413F-BB68-7B18DB1E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5F3A-038C-4F15-8A72-DAC4DE9D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0A5F-29AD-41B3-A53E-C7C5D2CA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2847-B8D4-43DB-9A88-031EB03C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9FD9-00D5-49DF-AAFC-35476C91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A6AC-6340-4D4C-B9AC-0349BF5A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C5FC-0E4B-4856-88AF-DC3283FC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6512-DD68-4110-A55A-FBAD915A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6A0A-B18D-4FCE-8E9F-89111D0C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7C86-029F-4AF5-BAD1-8A9B80D0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37DA-2A92-446B-876D-8F7972E7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C5F9-18B2-492E-82CD-470EF3A5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012A-D227-45D3-BD68-D71FE23D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257-2577-487D-8051-86225804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63EA-D6A8-476C-80F2-21290C82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1ED-B35C-4E06-8E01-F3D51E3F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4A2C-AA91-421D-9115-B23A0A7E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C87B-D016-4DAA-A897-C6464AA9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EC7-C60B-402C-B67A-62724A4E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4574-01E4-4DD0-9E8B-747DC5E74B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7AFD-CA5A-4300-B7FC-4586F23EB7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865680" y="457200"/>
          <a:ext cx="141120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5680" y="457200"/>
                    <a:ext cx="141120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8600" y="2789280"/>
            <a:ext cx="863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492b0"/>
                </a:solidFill>
                <a:latin typeface="Arial Black"/>
              </a:rPr>
              <a:t>Group 4 Proje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Types of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sign and carry out lab investigation or field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Collate, manipulate and analyse data from other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sign and use a model or sim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617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Example of Process to Identify a group 4 Project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209700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Step 1: Identify major topics: e.g., body, pollution, water, recycling, air, energy, nutrition, waste, agricul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Step 2: concentrate on a few topics: Pollution, Agriculture, nutri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Black"/>
              </a:rPr>
              <a:t>Step 3: Narrow topic down to one: e.g., Agriculture</a:t>
            </a: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 of Process to Identify a group 4 Project (cont.)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Step 4: Narrow it down to a focused question, e.g., How can agriculture help reduce pollution?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Step 5: Students in each subject come up with issues in their own are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and create a hypo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Step 6: Students in each subject narrow these down to what they can collect in terms of data and investig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~AUT0029" descr=""/>
          <p:cNvPicPr/>
          <p:nvPr/>
        </p:nvPicPr>
        <p:blipFill>
          <a:blip r:embed="rId1"/>
          <a:stretch/>
        </p:blipFill>
        <p:spPr>
          <a:xfrm>
            <a:off x="1295280" y="0"/>
            <a:ext cx="723924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road Topic: Sick Building Syndro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Black"/>
              </a:rPr>
              <a:t>Focused Question: How do the environmental conditions in a given building cause illnes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6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Biology issues:</a:t>
            </a: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  Survey of symptoms, research into existing medical data: studies of respiratory illnesses, research on organisms --cause/eff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SzPct val="6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Black"/>
              </a:rPr>
              <a:t>Chemistry Issues:</a:t>
            </a:r>
            <a:r>
              <a:rPr b="1" lang="en-US" sz="1800" spc="-1" strike="noStrike">
                <a:solidFill>
                  <a:srgbClr val="006600"/>
                </a:solidFill>
                <a:latin typeface="Arial Black"/>
              </a:rPr>
              <a:t> Call Health Department to find out tests for sick building e.g. in humidity studies, harmful gases,, etc. CO, CO</a:t>
            </a:r>
            <a:r>
              <a:rPr b="1" lang="en-US" sz="2000" spc="-1" strike="noStrike" baseline="-25000">
                <a:solidFill>
                  <a:srgbClr val="006600"/>
                </a:solidFill>
                <a:latin typeface="Arial Black"/>
              </a:rPr>
              <a:t>2</a:t>
            </a:r>
            <a:r>
              <a:rPr b="1" lang="en-US" sz="1800" spc="-1" strike="noStrike">
                <a:solidFill>
                  <a:srgbClr val="006600"/>
                </a:solidFill>
                <a:latin typeface="Arial Black"/>
              </a:rPr>
              <a:t>, particulates, water analysis, investigations of Brownian motion; Rn detection, condensation patter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6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 Black"/>
              </a:rPr>
              <a:t>Physics Issues:</a:t>
            </a:r>
            <a:r>
              <a:rPr b="1" lang="en-US" sz="1800" spc="-1" strike="noStrike">
                <a:solidFill>
                  <a:srgbClr val="a50021"/>
                </a:solidFill>
                <a:latin typeface="Arial Black"/>
              </a:rPr>
              <a:t> measurement of electromagnetic fields, air flow patterns, R factors, temperature of the buildin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 Black"/>
              </a:rPr>
              <a:t>Examples of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Arial Black"/>
              </a:rPr>
              <a:t>Group 4 Projects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Natural &amp; Synthetic Fi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400 m Running R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A study of an Estu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School Swimming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Exerc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aper Recyc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effect of Caffeine on the Human 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etroleum and the Automob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Classroom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ransport to 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p 4 Project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ool Garb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healthy is our Schoo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lution in City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e Energy Sources for the Sch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er / W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e St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ea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cience of Toys / Thrill R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vidence of particip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Tahoma"/>
              </a:rPr>
              <a:t>Individual-statement written by the student about his/her own individual contributions- (Your Journal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Individual-ABSTRAC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Group-poster produced by the group that includes the participation of the candidate whose work is being s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START YOUR GROUP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Form a group of 4 that contains at least one biologist, one chemist, and one physic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cide on your broad top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Generate ideas for a focussed research ques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Expectations for the Gro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March 28 ,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April 9,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April 30,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June 12,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June 13,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Groups chosen, broad topic decided, ideas for Focussed research qu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Approval Form Sub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lan submitted to IB teac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6600"/>
                </a:solidFill>
                <a:latin typeface="Tahoma"/>
              </a:rPr>
              <a:t>Poster D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9900"/>
                </a:solidFill>
                <a:latin typeface="Tahoma"/>
              </a:rPr>
              <a:t>Poster Presentation 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iloso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01132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cientific investigations of today involv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teamwork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which , like the Group 4 Project, is interdisciplina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underpinnings of teamwork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ommunication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respect for each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Nature of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2322000"/>
            <a:ext cx="849780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248"/>
                </a:solidFill>
                <a:latin typeface="Arial Black"/>
              </a:rPr>
              <a:t>Collaborative experi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Interdisciplinary co-ope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‘</a:t>
            </a: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Real Science’ ac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 Black"/>
              </a:rPr>
              <a:t>Processes, not Produc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velop and apply information and communication technology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Raise awareness of the moral, ethical, social, economic and environmental im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Gain an appreciation for the overarching nature of the scientific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76320" y="380880"/>
          <a:ext cx="9144000" cy="58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914400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6934320" y="522612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33526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6 -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Planning (2 – 3 hours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6564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Sharing of Information &amp;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Brainstorm the Top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Brainstorm Research Ques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Brainstorm Specific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Develop a Hypo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Sharing of information &amp;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finition of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475000"/>
            <a:ext cx="849780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Develop subject-specific questions to answer and 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a subject specific hypothes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Black"/>
              </a:rPr>
              <a:t>Define specific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Action (6 - 9 hours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87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Separate subject investig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As individuals or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Black"/>
              </a:rPr>
              <a:t>Each science requires its own investi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valuation (2 – 3 hour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33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Sharing findings (successes, failures and prog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Black"/>
              </a:rPr>
              <a:t>Format: Science Fair, Po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58ae"/>
                </a:solidFill>
                <a:latin typeface="Arial Black"/>
              </a:rPr>
              <a:t>Personal Ski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4120" y="2209680"/>
          <a:ext cx="3809880" cy="375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09680"/>
                    <a:ext cx="3809880" cy="37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14:37:08Z</dcterms:created>
  <dc:creator>Upper Canada College</dc:creator>
  <dc:description/>
  <dc:language>en-US</dc:language>
  <cp:lastModifiedBy>TDSB</cp:lastModifiedBy>
  <cp:lastPrinted>2009-04-22T19:24:48Z</cp:lastPrinted>
  <dcterms:modified xsi:type="dcterms:W3CDTF">2008-03-19T15:58:30Z</dcterms:modified>
  <cp:revision>44</cp:revision>
  <dc:subject/>
  <dc:title>PowerPoint Presentation</dc:title>
</cp:coreProperties>
</file>